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pct" ContentType="image/x-pict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8.jpeg" ContentType="image/jpeg"/>
  <Override PartName="/ppt/media/image1.pct" ContentType="image/x-pict"/>
  <Override PartName="/ppt/media/image4.png" ContentType="image/png"/>
  <Override PartName="/ppt/media/image1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F2B-9FFB-4845-9F35-BEB9A763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65B-43AE-40D1-A00A-16D38AEB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0EB-E70F-460E-922F-14C2539A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8F5-A3F7-41DD-BD26-5E707A68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3B2-813A-4FFE-95FE-58C3122A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769-F337-4945-AD63-DC1AE82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55EB-4ABB-4C72-8E5E-4BFEF40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2FA8-0262-4442-8BE7-3363293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7B5C-A308-4807-B452-3CE9EB0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D64-3BD3-44BF-A1D0-8CA99FC2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A493-EEDA-4483-889C-1FF00CF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C7E-8AF2-4C0B-95F0-DD4BFD9E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06DB-8F0B-407B-ADE9-B1A6408B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64C-7ADA-4DD1-BF53-B322B3A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B692-C606-4E3F-AD53-075F7C1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53BF-06AE-40FE-BAF8-98341B4D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5866-88B7-4B37-B4B4-9CC0DD97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899-B0F9-4337-A377-D335AAEE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F51-3DC1-4EE7-952A-F8B6E0F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5ED-C378-4AB5-8197-A8773B2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561-F220-4074-A493-3865FBB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900-A8B2-4B86-A7A1-C07D589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0FF-D227-48AA-885C-487F8A5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31B-D18C-4142-96CC-E138C95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8DD6-8C95-490F-8A5C-3C485651FFE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CFB5-372C-4330-97E6-63A383F7647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the US Gover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2540160"/>
            <a:ext cx="7620120" cy="3174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5791320"/>
            <a:ext cx="1591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http://education.occourts.org/Media/3branches.jp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4800240"/>
            <a:ext cx="6477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hit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EXECUTIVE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4421160" cy="3316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15000" y="16002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78360" y="1600200"/>
            <a:ext cx="2756160" cy="187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657840" y="4267080"/>
            <a:ext cx="1252800" cy="1582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4120" y="3505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George W. B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5943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ce President Dick Che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295280"/>
            <a:ext cx="7696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4 years (every 4 years, a president has to run for re-el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A president may only serve 2 terms (8 years tot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A candidate must be at least 35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Born in the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Lived in the US for 14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Presidents are elected by the electoral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867280" cy="3460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THE EXECUTIVE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819160" cy="215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24480" y="4648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Cabine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Electoral Colleg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828720"/>
            <a:ext cx="6724800" cy="519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55480" y="6012000"/>
            <a:ext cx="782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095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find out how many electoral vote each state has, add the number of Representatives in each state + number of Sen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866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view of the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4044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768400" cy="304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47242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preme Court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202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3280" y="54100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9 Supreme Court ju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Supreme Co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295280"/>
            <a:ext cx="7696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for life (no limit) or until a justice wants to ret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Does not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None outlined in the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When there is a vacancy in the federal courts or Supreme Court, a person is nominated by the President and must be confirmed y a 2/3 majority in the Senate. (The Senate holds public hearings over several days to interview/grill the nominee before the Senate vote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Chief Justice? 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John Rob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Confirmed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48480" y="4826160"/>
            <a:ext cx="15955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THE LEGISLATIVE BRA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57720" cy="422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657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114800"/>
            <a:ext cx="1143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of 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52720" y="411480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6172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Capitol Building in Washington, 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22840" cy="275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47242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pulation of a state determines how many representatives each state has in the House of Representatives (currently 435 Representatives tot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28600" y="825480"/>
            <a:ext cx="7543800" cy="6032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1080" y="6689880"/>
            <a:ext cx="3010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http://www.wnjpin.state.nj.us/OneStopCareerCenter/LaborMarketInformation/lmi25/appres/map03.gif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70844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Which state has the most representa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House of 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0968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2 years (every 2 years, each Representative has to run for re-el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There is no “term limit” -- some Representatives have been re-elected over and over again and have served 30+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One must be at least 25 years old and a citizen of the United States for 7 years before being eligible to run for office. 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Representatives are 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Maine’s Current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267080" cy="511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173844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20000" y="1828800"/>
            <a:ext cx="2124000" cy="264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3429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c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Mich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c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286000"/>
            <a:ext cx="2590560" cy="1066680"/>
          </a:xfrm>
          <a:prstGeom prst="line">
            <a:avLst/>
          </a:prstGeom>
          <a:ln w="9360">
            <a:solidFill>
              <a:srgbClr val="605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85840" y="3733920"/>
            <a:ext cx="3505320" cy="1218960"/>
          </a:xfrm>
          <a:prstGeom prst="line">
            <a:avLst/>
          </a:prstGeom>
          <a:ln w="9360">
            <a:solidFill>
              <a:srgbClr val="605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THE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8164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enate, each state has equal represent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 Senators from each state x 50 states = 100 Sena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Qualifications for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295280"/>
            <a:ext cx="7696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Term of Service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- 6 years (every 6 years, each Senator may run for re-election, and the terms are staggered so that all Senators are not up for re-election at the same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many term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There is no “term limit” -- some Representatives have been re-elected over and over again and have served 30+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Qualifications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One must be at least 30 years old and a citizen of the United States for 9 years before being eligible to run for office. Could Arnold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d72e2e"/>
                </a:solidFill>
                <a:latin typeface="Arial"/>
              </a:rPr>
              <a:t>How chosen?</a:t>
            </a:r>
            <a:r>
              <a:rPr b="0" lang="en-US" sz="2400" spc="-1" strike="noStrike">
                <a:solidFill>
                  <a:srgbClr val="3e3e5c"/>
                </a:solidFill>
                <a:latin typeface="Arial"/>
              </a:rPr>
              <a:t> Senators are el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8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Arial"/>
              </a:rPr>
              <a:t>Maine’s Current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68360" cy="403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70520" y="1523880"/>
            <a:ext cx="309564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5638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ympia Sn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562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an Coll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HS Teacher</cp:lastModifiedBy>
  <dcterms:modified xsi:type="dcterms:W3CDTF">2008-10-09T13:06:25Z</dcterms:modified>
  <cp:revision>21</cp:revision>
  <dc:subject/>
  <dc:title>THE LEGISLATIVE BRANCH</dc:title>
</cp:coreProperties>
</file>